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8F89-1E66-4527-9FC9-102213C5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7BA9-A02D-4387-B6C2-CC88A1F3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594C-BBEF-4EF8-82A2-AAA1B29CC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594B-7EEF-4EF2-9A48-3371B6B98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B559-57D5-46AD-A700-BDBEAC49F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BBA6-7B09-4AB5-80B3-17234640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0C8A-6711-4E8F-9DA6-57575D0A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1A36-5D24-4346-A20F-DA900E74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AB41-6DDD-4EE3-A8F2-341C72B8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4115-2AF1-4D0F-843E-607A461A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832B-14E7-46BF-9045-09658B53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1232-9FDC-4FCE-95A8-A65B3D8C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A7E9-DE38-4F68-8ABC-044C1D58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6007-6E51-4E54-85D0-56E94061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BF2F-D3A8-43E3-B3E3-25CBA593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C19A-3660-48AA-9290-4E1AC06C1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3A95-E353-45CC-A64B-463C64AD0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5F77-D6FC-48CB-B177-B2E47DD1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BEFF-2686-456D-9F46-31927444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FAAD-0FC9-4A02-9CBB-428E3163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8B19-32F3-41E9-B629-EDA2067A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5AF4-6F52-4758-9A57-28CB3F5B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5CF9-2029-4626-9A4F-D74D9C4E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395E-1D88-473C-ADFE-6CC8CFBC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AEF6-B5F5-45E3-A290-630786DF4E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12AA-9FC7-4DD4-BD03-71F632D6E3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504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ow To Run a Successful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Brainstorm Ses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8880" y="4981680"/>
            <a:ext cx="17528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uss the Objectives of the Exerc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big picture business goa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layers realize why they have been invi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the specific goals for the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Up a Relax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pen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meet at a fresh location that may be less stress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refreshments and music upon en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iminate negative or stressful pers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a Positive and Focused T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to get the team in the mind set of your intended customer by providing customer examples or case stu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humor and positive examples to encourage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the Guidelines for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resented ideas are NOT challenged or “put dow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up front that those who consistently make negative comments will be eje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ppropriate Tools Avail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truly rea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 white board or large tab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 a scrib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ccess to the internet and corporate intranet for quick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sure you eliminate all interruptions or confli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oderator -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to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someone the group will trust with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confident with subject mat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pose questions to get group back on track only when nee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features do you think our customers value the mo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 Col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a relay system to deliver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scribe write large enough so ideas can display and branch off of each 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e Energy Arou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se New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team refine and then present the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ly post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 through on best ideas to create energy across the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9:23:04Z</dcterms:created>
  <dc:creator/>
  <dc:description/>
  <dc:language>en-US</dc:language>
  <cp:lastModifiedBy>DataViz, Inc.</cp:lastModifiedBy>
  <dcterms:modified xsi:type="dcterms:W3CDTF">2002-07-02T23:15:54Z</dcterms:modified>
  <cp:revision>44</cp:revision>
  <dc:subject/>
  <dc:title>Successful Brainstorming</dc:title>
</cp:coreProperties>
</file>